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973-91FB-40DA-9681-987DA157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5A66-AC99-4726-95E6-630B51CA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64D-446E-48E2-9F81-4616F5896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4D2-5428-49E2-8212-ECE16194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8C6-F320-4C1E-8BDD-378BE34D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18A-1B7F-4FC9-9826-7EF3F335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848-FA62-42EA-81FF-5C4B2D2C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10E-56EF-4E8D-BED8-48872C6E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0EE-479A-40C1-B56C-CDBEB660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7B54-B332-4F95-BC55-430A712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137C-5AD4-4060-A718-F7FC682F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635A-255D-4674-9969-F34EE8E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FCEC-F697-4973-84B8-9281B7ECC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3962160" y="2819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80880" y="685800"/>
            <a:ext cx="4800240" cy="3429000"/>
            <a:chOff x="380880" y="685800"/>
            <a:chExt cx="4800240" cy="3429000"/>
          </a:xfrm>
        </p:grpSpPr>
        <p:sp>
          <p:nvSpPr>
            <p:cNvPr id="43" name=""/>
            <p:cNvSpPr/>
            <p:nvPr/>
          </p:nvSpPr>
          <p:spPr>
            <a:xfrm>
              <a:off x="380880" y="685800"/>
              <a:ext cx="1072080" cy="51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un T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73240" y="1531080"/>
              <a:ext cx="699120" cy="516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DK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2040" y="2188800"/>
              <a:ext cx="1071720" cy="563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o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016160" y="2282760"/>
              <a:ext cx="1164960" cy="563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19680" y="1155600"/>
              <a:ext cx="279360" cy="37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72360" y="1906920"/>
              <a:ext cx="37260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84120" y="2470680"/>
              <a:ext cx="932040" cy="4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44080" y="2940480"/>
              <a:ext cx="1118520" cy="61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GI 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71480" y="3738960"/>
              <a:ext cx="419400" cy="375840"/>
            </a:xfrm>
            <a:prstGeom prst="smileyFace">
              <a:avLst>
                <a:gd name="adj" fmla="val 92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758600">
              <a:off x="2992680" y="3549240"/>
              <a:ext cx="652320" cy="4698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flipH="1">
            <a:off x="342864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960" y="681120"/>
            <a:ext cx="1071720" cy="515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92320" y="1527120"/>
            <a:ext cx="698400" cy="5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D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2184480"/>
            <a:ext cx="1071720" cy="563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Resul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5600" y="2278080"/>
            <a:ext cx="1164960" cy="563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38400" y="1150920"/>
            <a:ext cx="28080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90720" y="1901880"/>
            <a:ext cx="37296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03560" y="2465280"/>
            <a:ext cx="932040" cy="4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200400"/>
            <a:ext cx="1117800" cy="61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GI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952880"/>
            <a:ext cx="419400" cy="3762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758600">
            <a:off x="1751760" y="3809880"/>
            <a:ext cx="1490760" cy="182880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2590920"/>
            <a:ext cx="99036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447920"/>
            <a:ext cx="114300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1981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5867280" y="2286000"/>
            <a:ext cx="1143000" cy="533160"/>
            <a:chOff x="5867280" y="2286000"/>
            <a:chExt cx="1143000" cy="533160"/>
          </a:xfrm>
        </p:grpSpPr>
        <p:sp>
          <p:nvSpPr>
            <p:cNvPr id="68" name=""/>
            <p:cNvSpPr/>
            <p:nvPr/>
          </p:nvSpPr>
          <p:spPr>
            <a:xfrm>
              <a:off x="5867280" y="2286000"/>
              <a:ext cx="1143000" cy="53316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81720" y="238752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518112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3352680"/>
            <a:ext cx="114300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828800" y="274284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962520"/>
            <a:ext cx="10670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14800" y="28195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429000" y="44197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8600" y="152280"/>
            <a:ext cx="3124080" cy="41148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91120"/>
            <a:ext cx="6095880" cy="12189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2860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3429000"/>
            <a:ext cx="10666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1640" y="3886200"/>
            <a:ext cx="685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69440" y="57456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828800"/>
            <a:ext cx="120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752480"/>
            <a:ext cx="108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2480" y="2784600"/>
            <a:ext cx="7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40384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160" y="48006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15120" y="5527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752480" y="137160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137160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2209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352320" y="25909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25909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8" idx="3"/>
            <a:endCxn id="86" idx="3"/>
          </p:cNvCxnSpPr>
          <p:nvPr/>
        </p:nvCxnSpPr>
        <p:spPr>
          <a:xfrm flipH="1" flipV="1">
            <a:off x="3426840" y="3195000"/>
            <a:ext cx="99000" cy="1834200"/>
          </a:xfrm>
          <a:prstGeom prst="curvedConnector5">
            <a:avLst>
              <a:gd name="adj1" fmla="val -840145"/>
              <a:gd name="adj2" fmla="val 50000"/>
              <a:gd name="adj3" fmla="val -8401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30481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438280" y="5257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352680"/>
            <a:ext cx="622440" cy="648000"/>
          </a:xfrm>
          <a:custGeom>
            <a:avLst/>
            <a:gdLst/>
            <a:ahLst/>
            <a:rect l="l" t="t" r="r" b="b"/>
            <a:pathLst>
              <a:path w="392" h="408">
                <a:moveTo>
                  <a:pt x="392" y="104"/>
                </a:moveTo>
                <a:cubicBezTo>
                  <a:pt x="384" y="152"/>
                  <a:pt x="376" y="200"/>
                  <a:pt x="344" y="248"/>
                </a:cubicBezTo>
                <a:cubicBezTo>
                  <a:pt x="312" y="296"/>
                  <a:pt x="248" y="376"/>
                  <a:pt x="200" y="392"/>
                </a:cubicBezTo>
                <a:cubicBezTo>
                  <a:pt x="152" y="408"/>
                  <a:pt x="88" y="376"/>
                  <a:pt x="56" y="344"/>
                </a:cubicBezTo>
                <a:cubicBezTo>
                  <a:pt x="24" y="312"/>
                  <a:pt x="0" y="248"/>
                  <a:pt x="8" y="200"/>
                </a:cubicBezTo>
                <a:cubicBezTo>
                  <a:pt x="16" y="152"/>
                  <a:pt x="72" y="88"/>
                  <a:pt x="104" y="56"/>
                </a:cubicBezTo>
                <a:cubicBezTo>
                  <a:pt x="136" y="24"/>
                  <a:pt x="176" y="16"/>
                  <a:pt x="200" y="8"/>
                </a:cubicBezTo>
                <a:cubicBezTo>
                  <a:pt x="224" y="0"/>
                  <a:pt x="236" y="4"/>
                  <a:pt x="248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40:48Z</dcterms:created>
  <dc:creator>CPT</dc:creator>
  <dc:description/>
  <dc:language>en-US</dc:language>
  <cp:lastModifiedBy>CPT</cp:lastModifiedBy>
  <dcterms:modified xsi:type="dcterms:W3CDTF">2009-08-06T19:13:03Z</dcterms:modified>
  <cp:revision>1</cp:revision>
  <dc:subject/>
  <dc:title>PowerPoint Presentation</dc:title>
</cp:coreProperties>
</file>