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E45-92FD-4321-B4EB-058EF101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16F-C095-4A48-8AF5-02C87F1E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E66-CD9F-4E3F-8670-3CF4A014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8AC-FEFF-4AFF-BC11-2A654B09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067-845A-4F9A-9F0D-5FF10590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A0E-EE43-4FE2-AB9B-C9ED2877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3DF-0A2B-4D97-9F6F-198294EE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49D-F0F2-42E3-A47E-303F0BBB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1AC-B2D0-40C2-9021-303377B6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633-CC34-46B5-946C-5DA44CC0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8C5-C4C9-43D1-962F-94EF4E39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D2D-02C6-4687-85BC-67223F0C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18A1-2B88-4EB3-AF22-0854342D9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9:52:05Z</dcterms:created>
  <dc:creator>Armin Wolf</dc:creator>
  <dc:description/>
  <dc:language>en-US</dc:language>
  <cp:lastModifiedBy>Armin Wolf</cp:lastModifiedBy>
  <dcterms:modified xsi:type="dcterms:W3CDTF">2009-01-19T09:52:58Z</dcterms:modified>
  <cp:revision>1</cp:revision>
  <dc:subject/>
  <dc:title>PowerPoint Presentation</dc:title>
</cp:coreProperties>
</file>